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017B-B2E2-4097-81C3-D84963AE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773360"/>
            <a:ext cx="786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3922920"/>
            <a:ext cx="786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D7DA-A056-4E2A-9BEE-F5BAB9F0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773360"/>
            <a:ext cx="383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31320" y="1773360"/>
            <a:ext cx="383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3922920"/>
            <a:ext cx="383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31320" y="3922920"/>
            <a:ext cx="383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E742-876C-4A58-B4AB-DC307E7D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773360"/>
            <a:ext cx="253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1160" y="1773360"/>
            <a:ext cx="253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19040" y="1773360"/>
            <a:ext cx="253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3922920"/>
            <a:ext cx="253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1160" y="3922920"/>
            <a:ext cx="253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19040" y="3922920"/>
            <a:ext cx="253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B909-8E88-45AE-BA8C-891444EE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77336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ECDA-15F8-4B34-9267-4A00E93F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77336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F177-F92C-46B5-8153-C42D0CF8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773360"/>
            <a:ext cx="383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31320" y="1773360"/>
            <a:ext cx="383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9D2C-51B2-4DFA-992E-535F403B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8C93-DBC4-43DC-B725-A45FD305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1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FFB8-E59E-4511-989B-D0161C81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73360"/>
            <a:ext cx="383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31320" y="1773360"/>
            <a:ext cx="383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3922920"/>
            <a:ext cx="383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31BA-2A37-4185-9A9A-8035B340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73360"/>
            <a:ext cx="383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31320" y="1773360"/>
            <a:ext cx="383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31320" y="3922920"/>
            <a:ext cx="383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2362-EE8F-4283-B99D-8B56BA81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73360"/>
            <a:ext cx="383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31320" y="1773360"/>
            <a:ext cx="383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3922920"/>
            <a:ext cx="786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A0CE-3601-4D6E-96F8-BA6D7CD7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7336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0C6C-566E-421D-AEC6-EEC424FAC5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521000"/>
            <a:ext cx="7772400" cy="16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 Narrow"/>
              </a:rPr>
              <a:t>  </a:t>
            </a:r>
            <a:r>
              <a:rPr b="1" lang="en-US" sz="4000" spc="-1" strike="noStrike">
                <a:solidFill>
                  <a:srgbClr val="ffffcc"/>
                </a:solidFill>
                <a:latin typeface="Arial Narrow"/>
              </a:rPr>
              <a:t>SIR, WE WOULD SEE JESUS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 Narrow"/>
              </a:rPr>
              <a:t>LIFE OF CHRIST, PART 2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2920" y="3357720"/>
            <a:ext cx="5940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10, LESSON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KE 10:1-12: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98-1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A8F2-0AF1-4AB7-8047-36E3ACE8305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0ED27-E9C4-4704-9420-FD99A8FA9CCA}" type="datetime1">
              <a:rPr lang="en-US"/>
              <a:t>07/28/26</a:t>
            </a:fld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1696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CHOOSE THE BEST PART; HOW TO PRAY; ACCUSATIONS AGAINST JESUS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LUKE 10:38-11:36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73360"/>
            <a:ext cx="7861320" cy="50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makes the point that one is either for or against Him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a woman in the crowd praises Jesus through His mother by calling her blessed, He replies, it is </a:t>
            </a:r>
            <a:r>
              <a:rPr b="0" lang="en-US" sz="2800" spc="-1" strike="noStrike" u="sng">
                <a:solidFill>
                  <a:srgbClr val="ff9966"/>
                </a:solidFill>
                <a:uFillTx/>
                <a:latin typeface="Verdana"/>
              </a:rPr>
              <a:t>more blesse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o hear God’s word and keep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calls that generation evil. It seeks a sign, and no sign will be given except the sign of Jon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queen of the South and the men of Nineveh will judge and condemn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D2C7-B608-4D37-992C-173230781D5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A65EA-6EA1-4E44-9C7A-380DDC6910F3}" type="datetime1">
              <a:rPr lang="en-US"/>
              <a:t>07/28/26</a:t>
            </a:fld>
          </a:p>
        </p:txBody>
      </p:sp>
    </p:spTree>
  </p:cSld>
  <p:transition>
    <p:dissolv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WOE TO THE PHARISEES AND LAWYERS LUKE 11:37-54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699920"/>
            <a:ext cx="786132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arisee noticed that Jesus hadn’t washed before di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, reading his thoughts said, ”you Pharisees make the outside of the cup and dish clean, but your inward part is full of greed and wickednes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arisees were told to give alms to the poor, and in their tithing, don’t omit justice and love of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pronounced woe to them for their love of the chief seats in the synagogue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1275-1321-40E5-AA25-53F981DA52F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CFEE63-721C-4149-B399-366ACDC7ECD3}" type="datetime1">
              <a:rPr lang="en-US"/>
              <a:t>07/28/26</a:t>
            </a:fld>
          </a:p>
        </p:txBody>
      </p:sp>
    </p:spTree>
  </p:cSld>
  <p:transition>
    <p:blinds dir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WOE TO THE PHARISEES AND LAWYERS LUKE 11:37-54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699920"/>
            <a:ext cx="786132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e unto you lawyers! For you load men with burdens hard to bear and won’t lift a finger to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continues to berate them, for their fathers killed the prophets and they build the tom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e to the lawyers for taking away the key of knowledge; They wouldn;t enter and hindered those who wou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3C40-E339-40E5-9C2E-3DDD6BD1741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CA635-543F-4948-B3C9-47E3DCB471E6}" type="datetime1">
              <a:rPr lang="en-US"/>
              <a:t>07/28/26</a:t>
            </a:fld>
          </a:p>
        </p:txBody>
      </p:sp>
    </p:spTree>
  </p:cSld>
  <p:transition>
    <p:blinds dir="ver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WARNINGS AND ENCOURAGEMENTS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LUKE 12:1-12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73360"/>
            <a:ext cx="7861320" cy="475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crisy is the leaven of the Pharis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will eventually be revea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fear those who can only kill the body, but Him who, after He has killed,  can cast into h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ess Christ before men and He will confess you before the angels of God, but if you deny Him, He will deny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sphemy against the Holy Spirit will not be forgi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38ED-3D7E-4CCF-968D-E3F887CDCA0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D824F-C8BD-492E-95F8-304F37B1105F}" type="datetime1">
              <a:rPr lang="en-US"/>
              <a:t>07/28/26</a:t>
            </a:fld>
          </a:p>
        </p:txBody>
      </p:sp>
    </p:spTree>
  </p:cSld>
  <p:transition>
    <p:zoom dir="ou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PARABLE OF THE RICH FOOL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LUKE 12:13-21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73360"/>
            <a:ext cx="7861320" cy="50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from the crowd said: “Teacher, tell my brother to divide the inheritance with m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asks, “man, who made Me a judge or an arbiter over you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’s life doesn’t consist in abundant th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then spoke a parable about a certain rich man who had many goods, enough to last many years, but thought only of himself and his pl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night his soul would be required of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rich toward God, not 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F38F-4943-4528-8AAF-DE3C0009CFC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F57F9-3078-479D-BC0A-E22F9224A1EB}" type="datetime1">
              <a:rPr lang="en-US"/>
              <a:t>07/28/26</a:t>
            </a:fld>
          </a:p>
        </p:txBody>
      </p:sp>
    </p:spTree>
  </p:cSld>
  <p:transition>
    <p:cover dir="r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920000" cy="15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STORIES IN LUK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MISSION OF THE SEVENTY;  LUKE 10:1-24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7280" y="1980720"/>
            <a:ext cx="8483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sends out seventy of His disciples two by two into the various c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to be urgent for, “ the harvest is great, but the laborers are few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sent out like lambs among wolves, taking no money, no knapsack or extra sand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ing a house, they are to say, “peace to this hous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 man of peace is there, their peace would rest on it, if not it would return to th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8658-7A10-4779-AA3A-FBCDE22CAB9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20695-4C21-4D6B-AEB3-6BA922B75D13}" type="datetime1">
              <a:rPr lang="en-US"/>
              <a:t>07/28/26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920000" cy="15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STORIES IN LUK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MISSION OF THE SEVENTY;  LUKE 10:1-24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87280" y="1591920"/>
            <a:ext cx="8483760" cy="52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y are not to go from house to house, but to stay and eat and drink t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n they enter a city, they are to heal the sick and say to them “the kingdom of God is near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hould a city not receive them, they are to go into the street and wipe the dust of the city off their feet against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esus pronounces woe to Chorazin and Bethsaida because if the miracles performed there had been done in Tyre and Sidon, they would have repented long 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eventy return with joy, but are told to rejoice because their names were written in hea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3099-5339-47C2-A9EE-C0D087EF3E1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6A94B-6A49-4443-BD93-54B2F4F10F6E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PARABLE OF THE GOOD SAMARITAN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LUKE 10:25-37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7336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test Jesus, a lawyer asks Him, “Teacher, what shall I do to inherit eternal life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replies, “what is written in the law? What is your reading of it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wyer responds, “you shall love the Lord your God with all your heart….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tells him that he has answered right and if he would do it he would l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wyer,  wanting to justify  himself, asks Jesus, “and who is my neighbor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0F92-2C9A-4348-B5F4-BB633EF6801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82A18C-28DB-4BA6-82A6-7BF3C8D84913}" type="datetime1">
              <a:rPr lang="en-US"/>
              <a:t>07/28/26</a:t>
            </a:fld>
          </a:p>
        </p:txBody>
      </p:sp>
    </p:spTree>
  </p:cSld>
  <p:transition>
    <p:newsflash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PARABLE OF THE GOOD SAMARITAN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LUKE 10:25-37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7336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answers with a story about a man injured by thieves.  A priest and a Levite pass by without offering help, but a Samaritan happens by, takes pity on him, binds up his wounds after pouring on oil and wine and brings the injured man to an in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now asks, “which of these three was neighbor to him who fell among thieves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wyer replied, “he who showed him merc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adds, “go and do likewis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AC0C-611F-408D-A5D1-83CF2CC14B5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C0E8B-FF61-439A-9B69-ED2DB71F9DE5}" type="datetime1">
              <a:rPr lang="en-US"/>
              <a:t>07/28/26</a:t>
            </a:fld>
          </a:p>
        </p:txBody>
      </p:sp>
    </p:spTree>
  </p:cSld>
  <p:transition>
    <p:push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1696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CHOOSE THE BEST PART; HOW TO PRAY; ACCUSATIONS AGAINST JESUS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LUKE 10:38-11:36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73000"/>
            <a:ext cx="786132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comes to the house of a woman named Mart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e has a sister named Mary who sits at Jesus’ feet and hears His w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rtha, distracted by much serving, asks Jesus to tell Mary to help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said to her, “Martha, Martha, you are troubled about many things, but one thing is needed and Mary has chosen that good part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C9FA-8A5B-402F-BE43-928F54E21EB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C93BE-81A3-485C-AE9E-B17740A78956}" type="datetime1">
              <a:rPr lang="en-US"/>
              <a:t>07/28/26</a:t>
            </a:fld>
          </a:p>
        </p:txBody>
      </p:sp>
    </p:spTree>
  </p:cSld>
  <p:transition>
    <p:randomBar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1696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CHOOSE THE BEST PART; HOW TO PRAY; ACCUSATIONS AGAINST JESUS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LUKE 10:38-11:36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73000"/>
            <a:ext cx="786132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ce, when Jesus had finished praying, His disciples asked Him to teach them how to p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wanted to know how to pray personally to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gave them the example of what is commonly known as `the Lord’s prayer`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then continues to teach them to be consistent in prayer, to ask for what is needed and the Father will bless with good gif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52AD-CFD0-4F70-94B6-CB95BFACA9F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8E274-F4C6-47D3-81CC-02FF755AC178}" type="datetime1">
              <a:rPr lang="en-US"/>
              <a:t>07/28/26</a:t>
            </a:fld>
          </a:p>
        </p:txBody>
      </p:sp>
    </p:spTree>
  </p:cSld>
  <p:transition>
    <p:cover dir="r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1696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CHOOSE THE BEST PART; HOW TO PRAY; ACCUSATIONS AGAINST JESUS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LUKE 10:38-11:36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73000"/>
            <a:ext cx="786132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casts out a demon which was causing a man to be m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the mute spoke, the multitude marve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who were there said, “He casts out demons by Beelzebub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then teaches that a kingdom divided against itself is brought to desolation and a house divided against itself cannot 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08E7-55FF-4FE1-933D-AA54F2A1870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A57731-8E3B-49F6-8C9F-D7792E0B87E2}" type="datetime1">
              <a:rPr lang="en-US"/>
              <a:t>07/28/26</a:t>
            </a:fld>
          </a:p>
        </p:txBody>
      </p:sp>
    </p:spTree>
  </p:cSld>
  <p:transition>
    <p:cover dir="l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1696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CHOOSE THE BEST PART; HOW TO PRAY; ACCUSATIONS AGAINST JESUS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LUKE 10:38-11:36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73000"/>
            <a:ext cx="786132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lesson taught here is: If Satan is divided against himself, his kingdom will f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esus goes on to speak of a strong man guarding his place and is overcome by one stron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esus also tells of an unclean spirit going out of a man and finding no rest returns with seven others more wicked than him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last state of the man is worse than th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C16D-E638-41C3-BC51-C60389F1285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E2382-4995-4F4D-AEE8-8AD770950AF7}" type="datetime1">
              <a:rPr lang="en-US"/>
              <a:t>07/28/26</a:t>
            </a:fld>
          </a:p>
        </p:txBody>
      </p:sp>
    </p:spTree>
  </p:cSld>
  <p:transition>
    <p:cover dir="l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illy lauderdale</cp:lastModifiedBy>
  <dcterms:modified xsi:type="dcterms:W3CDTF">2006-07-08T01:50:06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